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6B2C-26B3-4DA0-AB90-F665D924B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FB6-9149-4809-9685-D559A61D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FDE-5CBC-4305-9ECC-B9C90A00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0E8-9627-4DED-B2F5-5070708C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6F4-8183-4BAF-BD87-231909E1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37EC-2E34-40F4-9049-4C7A32DB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42C6-76A0-4609-A1AE-CA5E8C32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A472-3914-4420-99D1-AD8C8E24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6CD5-548E-4F25-B299-1A27812C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3CA3-2D7B-4BA2-BDF3-D05B85F3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DCE7-BF39-4170-8BF4-DA41DA7D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6BBF-9F8E-4606-A01E-90630606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5DD-9DDD-4DFA-8DF9-11498D36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8A83-DEE0-47AD-9FDA-CD1172E8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544E-843F-4A5A-80E6-FEBB1336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1160-A96E-4118-BEA3-8281C6E0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9C27-58C3-4B94-9E9B-51FED26A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69D4-6996-4996-AC00-3556BEA7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ECA-744C-44FC-8C5C-C7EB2836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956-E0F7-4785-8B2D-C29DB321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FA3-8DE5-4155-B59D-38DF670D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5DA-B776-40BA-BCCF-CC874F2F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AE8-C242-4B90-A097-B7AA7D99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241-93C7-4457-9729-4F096BC7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AC0-E607-48DD-AA69-B16F0903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92D2-C59B-4A9B-86AA-C40236F7D7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9348-9814-4DB5-8EBA-E0F13299E7E6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belibrary.org/images/tterry/anim/phago053.html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2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6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47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0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8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1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Picture 4" descr="Phagocytose"/>
          <p:cNvPicPr/>
          <p:nvPr/>
        </p:nvPicPr>
        <p:blipFill>
          <a:blip r:embed="rId2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4303087"/>
          <p:cNvPicPr/>
          <p:nvPr/>
        </p:nvPicPr>
        <p:blipFill>
          <a:blip r:embed="rId3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0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>the immune system phagocytosis</dc:description>
  <cp:keywords>the immune system phagocytosis</cp:keywords>
  <dc:language>en-US</dc:language>
  <cp:lastModifiedBy>LEGION</cp:lastModifiedBy>
  <dcterms:modified xsi:type="dcterms:W3CDTF">2015-09-18T10:32:23Z</dcterms:modified>
  <cp:revision>7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